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DC317-EDFE-428F-A7CA-67C81DA30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EB16B-F50F-4C25-A4B9-8EB95BCC3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05D10-AC30-4AC4-B485-24E087194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01CA1-59B1-4D83-9F8B-E2F2D4E3A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15644-00CA-47F4-A211-303FE36C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B1854-4FD8-4744-89B2-6EFA6FF6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36138-B573-40CF-97FF-7E11E911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4B103-7C9F-4AB2-8943-2CFE3629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CF966-C2F3-4835-AEC4-D5B381D4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808DB-EA47-4B69-B1D0-904AEB17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D3F2A-80FB-4930-B716-000B1F70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695A7-430C-4FAB-85A0-7061B8CAF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7874C-BD0E-4071-AEBE-5A4E4219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5ECB8-2DE2-470E-A2BE-DCA5B890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B9157-7470-4B3F-B2BB-083C6410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BEE0C-40ED-4F37-BFAE-952AB980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35232-0494-4DEA-AA06-D68FF18B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30D50-34D0-4EBE-80E5-F736DE2D7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1B0E6-5059-46CA-B3A3-826A98C4D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9E878-E231-4BC1-AF7B-8C7A99177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045C2-77D1-48D0-9C97-69FA9EFD5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B519C-91DA-45DD-ABAB-E7B5131C9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A2BB6-34DA-4136-8713-31611BDB5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7C58A-742A-49A7-BE8B-694892BA48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2f"/>
            </a:gs>
            <a:gs pos="100000">
              <a:srgbClr val="99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7002f"/>
              </a:gs>
              <a:gs pos="100000">
                <a:srgbClr val="99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7002f"/>
              </a:gs>
              <a:gs pos="50000">
                <a:srgbClr val="990066">
                  <a:alpha val="50196"/>
                </a:srgbClr>
              </a:gs>
              <a:gs pos="100000">
                <a:srgbClr val="4700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7002f"/>
              </a:gs>
              <a:gs pos="50000">
                <a:srgbClr val="990066"/>
              </a:gs>
              <a:gs pos="100000">
                <a:srgbClr val="4700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2178-C7C7-49B5-B73F-2DEA1C0F0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rc 9"/>
          <p:cNvSpPr/>
          <p:nvPr/>
        </p:nvSpPr>
        <p:spPr>
          <a:xfrm flipH="1">
            <a:off x="5718960" y="3240"/>
            <a:ext cx="3429000" cy="6851520"/>
          </a:xfrm>
          <a:prstGeom prst="pie">
            <a:avLst/>
          </a:prstGeom>
          <a:noFill/>
          <a:ln w="9360">
            <a:solidFill>
              <a:srgbClr val="99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Arc 10"/>
          <p:cNvSpPr/>
          <p:nvPr/>
        </p:nvSpPr>
        <p:spPr>
          <a:xfrm flipV="1">
            <a:off x="6932520" y="-838800"/>
            <a:ext cx="2211480" cy="2361960"/>
          </a:xfrm>
          <a:prstGeom prst="pie">
            <a:avLst/>
          </a:prstGeom>
          <a:noFill/>
          <a:ln w="9360">
            <a:solidFill>
              <a:srgbClr val="99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Line 11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002f"/>
            </a:gs>
            <a:gs pos="100000">
              <a:srgbClr val="99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7002f"/>
              </a:gs>
              <a:gs pos="50000">
                <a:srgbClr val="990066">
                  <a:alpha val="50196"/>
                </a:srgbClr>
              </a:gs>
              <a:gs pos="100000">
                <a:srgbClr val="4700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7002f"/>
              </a:gs>
              <a:gs pos="50000">
                <a:srgbClr val="990066"/>
              </a:gs>
              <a:gs pos="100000">
                <a:srgbClr val="4700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Group 6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Rectangle 7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Rectangle 8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Rectangle 13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Rectangle 14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19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Freeform 24"/>
          <p:cNvSpPr/>
          <p:nvPr/>
        </p:nvSpPr>
        <p:spPr>
          <a:xfrm>
            <a:off x="187200" y="404640"/>
            <a:ext cx="7489800" cy="5542200"/>
          </a:xfrm>
          <a:prstGeom prst="pie">
            <a:avLst/>
          </a:prstGeom>
          <a:noFill/>
          <a:ln w="9360">
            <a:solidFill>
              <a:srgbClr val="99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25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7002f"/>
              </a:gs>
              <a:gs pos="50000">
                <a:srgbClr val="990066"/>
              </a:gs>
              <a:gs pos="100000">
                <a:srgbClr val="4700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Arc 27"/>
          <p:cNvSpPr/>
          <p:nvPr/>
        </p:nvSpPr>
        <p:spPr>
          <a:xfrm flipH="1">
            <a:off x="5866560" y="3240"/>
            <a:ext cx="3429000" cy="6851520"/>
          </a:xfrm>
          <a:prstGeom prst="pie">
            <a:avLst/>
          </a:prstGeom>
          <a:noFill/>
          <a:ln w="9360">
            <a:solidFill>
              <a:srgbClr val="99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45720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6B3F-3717-4124-BE1A-93E5E02F8B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257800" y="5285880"/>
            <a:ext cx="3581280" cy="88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Bikes cost $3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928800" y="856800"/>
            <a:ext cx="731520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 Narrow"/>
              </a:rPr>
              <a:t>Lucy and George want to buy new bicycl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3048120" y="2743200"/>
            <a:ext cx="480060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3505320" y="2743200"/>
            <a:ext cx="3563640" cy="3276720"/>
            <a:chOff x="3505320" y="2743200"/>
            <a:chExt cx="3563640" cy="3276720"/>
          </a:xfrm>
        </p:grpSpPr>
        <p:pic>
          <p:nvPicPr>
            <p:cNvPr id="114" name="Object 12" descr=""/>
            <p:cNvPicPr/>
            <p:nvPr/>
          </p:nvPicPr>
          <p:blipFill>
            <a:blip r:embed="rId1"/>
            <a:stretch/>
          </p:blipFill>
          <p:spPr>
            <a:xfrm>
              <a:off x="3505320" y="3200400"/>
              <a:ext cx="160488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Object 13" descr=""/>
            <p:cNvPicPr/>
            <p:nvPr/>
          </p:nvPicPr>
          <p:blipFill>
            <a:blip r:embed="rId2"/>
            <a:stretch/>
          </p:blipFill>
          <p:spPr>
            <a:xfrm>
              <a:off x="5105520" y="2743200"/>
              <a:ext cx="1963440" cy="266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Line 16"/>
          <p:cNvSpPr/>
          <p:nvPr/>
        </p:nvSpPr>
        <p:spPr>
          <a:xfrm>
            <a:off x="1143000" y="4267080"/>
            <a:ext cx="335268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0240" y="45720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 Narrow"/>
              </a:rPr>
              <a:t>Lucy’s plan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38480" y="1968480"/>
            <a:ext cx="4572000" cy="39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Lucy opened a savings account with $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She got a job and saves $30 per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OOPS!  A non-interest bearing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Object 7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353040" cy="318924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6" descr=""/>
          <p:cNvPicPr/>
          <p:nvPr/>
        </p:nvPicPr>
        <p:blipFill>
          <a:blip r:embed="rId2"/>
          <a:stretch/>
        </p:blipFill>
        <p:spPr>
          <a:xfrm>
            <a:off x="2590920" y="4191120"/>
            <a:ext cx="1325520" cy="1508040"/>
          </a:xfrm>
          <a:prstGeom prst="rect">
            <a:avLst/>
          </a:prstGeom>
          <a:ln w="0">
            <a:noFill/>
          </a:ln>
        </p:spPr>
      </p:pic>
    </p:spTree>
  </p:cSld>
  <p:transition spd="med"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1320" y="928440"/>
            <a:ext cx="35002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Narrow"/>
              </a:rPr>
              <a:t>George’s plan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3809880"/>
            <a:ext cx="65530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George started a savings account with $7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e’s saving $25 per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Same non-interest bearing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541008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0240" y="457200"/>
            <a:ext cx="842148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Narrow"/>
              </a:rPr>
              <a:t>Your Task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2600" y="1642680"/>
            <a:ext cx="7635960" cy="39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Make tables of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Remember to begin on week zero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End the table when they’ve saved enough money to buy the b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Write an equation that shows the connection between the money saved and the week of sav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Graph both equations on one set of ax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0240" y="45720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Narrow"/>
              </a:rPr>
              <a:t>Some Question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696080" cy="341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Where do the lines interse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What does this repres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ow long will it take each person to save enough money to buy a bicyc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s this a realistic probl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What could interfere with their pla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0240" y="45720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Narrow"/>
              </a:rPr>
              <a:t>Your answers should include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2388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 table of values and an equation for each 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One graph showing Lucy and George’s sav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 paragraph explaining your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 paragraph answering all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18:59:55Z</dcterms:created>
  <dc:creator>C.U.S.D.</dc:creator>
  <dc:description/>
  <dc:language>en-US</dc:language>
  <cp:lastModifiedBy>Carol Moule</cp:lastModifiedBy>
  <dcterms:modified xsi:type="dcterms:W3CDTF">2010-08-13T12:40:24Z</dcterms:modified>
  <cp:revision>9</cp:revision>
  <dc:subject/>
  <dc:title>A New Bicycle</dc:title>
</cp:coreProperties>
</file>